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5125-DE9B-42D5-8DC6-AEC77C59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B0D-4D22-4E25-AA2F-673E8B1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AFD-895A-4BB9-B10F-66AF7103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D885-30F5-49E5-9E67-53634CF5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29A-EA5F-4913-8979-A2E5A2E7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369-12ED-4E3E-9C0F-D5F751C1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03A-CF72-468B-A965-47D8F849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265-77D6-4983-A7D7-673CBA06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29B-D7D2-4699-8378-1BB2E875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1A83-2A01-4CF8-BE91-FB1981F2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8100-EE5C-495F-85F3-79A20294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F99-8C03-4C67-83EF-205C996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C558-4B9A-41BC-B71A-E3380769A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b/bd/Flag_of_Cuba.svg/800px-Flag_of_Cuba.svg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B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a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Po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286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Arial"/>
              </a:rPr>
              <a:t>Country in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276720"/>
            <a:ext cx="3200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ame in Spa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Rebublica de Cu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667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ime min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aul C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43160" y="1085760"/>
            <a:ext cx="28576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ype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Communis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//www.misscubala.com/cuban_graphics/cuban_flag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2666880" y="2819520"/>
            <a:ext cx="35719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uba size and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:42,803 sq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11,423,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: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City: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tary Unit: Cuban P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s: Spa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: Mulat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75480" y="5599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5:50:24Z</dcterms:created>
  <dc:creator>poolea</dc:creator>
  <dc:description/>
  <dc:language>en-US</dc:language>
  <cp:lastModifiedBy>poolea</cp:lastModifiedBy>
  <dcterms:modified xsi:type="dcterms:W3CDTF">2008-11-24T19:58:09Z</dcterms:modified>
  <cp:revision>3</cp:revision>
  <dc:subject/>
  <dc:title>CUBA</dc:title>
</cp:coreProperties>
</file>